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879-E4CA-4C5C-84F0-68C01F71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C8D-B17E-4A8D-B8B3-030875C8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45F74-FC4D-4640-B0AB-8F68FA6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43CBB-671D-4CF0-B19A-A4692246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C66BF-DD02-4F4F-AAAA-565C8D4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39CBB-50B1-4BB2-B0E0-1B4BDDAD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EBDB0-A32D-4934-94D7-71C469A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AE3BC-AB05-49B9-8DA0-BFDE4C4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7B49D-C196-4FC4-AFBB-5973BBD2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C6E20-4F99-4B18-A072-48F77010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6C53E-2527-414E-8DF5-480F54F7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88297-D793-49B5-95A5-16A0B4D1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C12-A70A-48EB-A527-3C8A9B0A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3E59C-BC3D-4023-B8E9-822143D0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485E4-B798-4609-84A9-CFBC174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5B67-69B7-4992-B3B1-F44FA827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91EE3-EF47-43DD-82D5-B2F31C8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B708-626D-4899-8FBF-AB0A88A3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4182E-91D5-4B44-9648-8D2494B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803C1-48F5-41AA-B52F-B8B05B47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546A4-61BC-4927-B199-37630D93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1BCD-E21C-43BC-9FCD-94F3BF3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1EED8-8AF3-45D8-A1FC-E71E4B41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C71-EC61-4908-AF74-565E3C78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29D18-CD52-4471-BDBE-05FF061F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21FC5-057C-415C-9E17-A18F1B1F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FEB74-20F8-461E-8199-F1D84A2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EFC92-6F0A-4A3B-A213-B424B69B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BC53E-EF7E-444F-8CCA-47B5DA0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981EF-ED41-4E82-A269-39D844A0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6BC73-B4D8-414B-B678-399609D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FEA3-A3A3-451C-8880-44E17279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A133A-F8B0-4F3C-8130-53EAD0D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5E7B2-8471-4669-A3A2-E23DF78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9340-56F6-4C65-A29A-2754C45E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5B742-F1AC-4CD5-B816-6B08A59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00ADB-FFC6-46A0-A9F0-376988B1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FB167-7AC2-4B9B-98B8-48AFE113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6615A-BF21-4FDA-BE31-CCF7CC5C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9BE77-5A87-4A56-861D-10DEDC1A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07916-6CC2-494A-9D4B-4BA50D7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7524F-C454-4AC6-B493-549E368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A6EF6-D471-4DCD-87A8-3125C481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4E910-E2A6-4810-BED9-6565822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633D4-FD4E-451A-AE24-690BC4F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1ED4-026C-4DFB-AB85-92CE963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66A60-244E-47DC-97D2-161073FA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284C1-7989-47F0-925D-41EC493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4DC1B-FC2F-4E61-9D2A-58AC9370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A9140-1840-449B-BA2D-B1F14AEE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8F217-E3F4-4EB9-A98B-00A2F304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F1F3-6603-46A5-9C9D-F8634695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07A5-A0EB-4654-8AFC-8F40138B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70AF-409A-405F-9F85-65B1EA89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7F0B-C410-4A4C-803E-C8346E1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BC7F-1DB5-4BAC-8392-53C943A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88E-48FB-4FFA-865E-4BE3B56C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AD0-A4DB-4651-BF1E-91C2DC7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84BE-A269-4C86-B727-63B77EF6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115-497F-4424-8138-C4E0540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D65-41EC-4061-86B6-D522D104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C5A2-5457-44F4-9051-D8075E7B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E535-FDC0-472C-A582-275A661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7959-E89C-400B-8D85-ABD31C92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0D35-1226-4440-9891-A382E2C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CE11-352A-4B24-8207-CEE86E1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4DC3-5713-4FF5-A861-091FF303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F0F-7BAB-4599-ACC9-91933B3F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3B12-2CF0-4AA0-89E1-EFC583B1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14DD-146A-4080-991D-C6820BF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D2A6-242C-40C8-830B-C107535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7C1B-4084-4B96-BC31-81B6B5F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CE00-D60D-4180-897A-F0F4241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D2E6-7A91-4064-B970-6346F9B0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6965-6626-4602-8495-12DF3CEC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4392-69BB-498B-8743-EB9B8195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D606-70AA-41FA-B752-C91FD2E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51F8-149E-4D4B-96E6-004EF6C8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681-4BB7-43FE-A6BF-794DFC92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533A-B902-4ABF-9788-3DAEB69B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1931-CEAF-4501-8CC0-1A9C0741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2AAC-0909-42DF-BCAF-313DDEA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4057-5963-4CCB-A366-CC307F9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9AE8-9613-423D-A7F4-ED23CDB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769D-44FB-43E0-98B3-FEB35A9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14BE-2F9B-48D8-8E6D-E37ED7C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E0A5-68F8-4B30-B814-D11DCAAD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2B46-7215-4E2E-8B1C-8474FE46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D20D-F284-4F68-AD92-05B08335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DE3-BE73-4A0E-B23B-3DEC292A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5B57E-5218-4200-A92F-4FD647A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DC4F4-9099-4FD1-9876-C79ABBE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8201-7402-4B87-A1F8-266FF17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2C0D-C017-4E27-9D68-7B295EF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0F83-17EA-4F29-9EAD-AC4188A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1E91-D267-4EA8-9AE5-A2334A5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DD4F-9639-454C-9EF7-77FC30D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4CCA-198B-4D0E-AB5B-060647B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5ABA-F5DC-4FD2-A70C-F462033A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C8E5-C95F-4B5C-B908-DBFC0DEA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2E5-D5D2-4596-A079-7D0DCB0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B38F1-504B-4E44-B1BF-64367973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47DA-36AB-4FB2-A9B2-FED612C7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F0485-44F8-4A44-9E57-190353C4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3A877-5D75-4016-8226-7EA76A3E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5390-1998-49FA-85E6-CE18053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A6375-9A02-4459-966D-0CD0B626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AB11-FAB1-472B-BCE0-E230D8B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0DC1D-23C1-41E9-B510-F844CE5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9EA5-4807-42BB-9601-D139016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C274-2C22-461C-A03D-16F48BF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C74-6876-4C2F-8642-FC60B68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0BFC-6F43-48DE-AD6E-7361F969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9FE5-D03C-4B14-813C-CCD0A560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B001-83C3-4674-9404-770F6945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0432-2108-49ED-BEE6-B0931F43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2C50E-DFC6-4F20-AAF8-7EE4E9D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2C273-C63D-4037-9DDF-7D0A5E4B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A4FD-3119-4B99-831F-02A6C349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C1051-23F4-4D68-B53E-D12E6F8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CB84-A511-4B96-BD32-EF384BFB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B53F-53BD-4FBF-8F03-698A4848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91E-199A-4437-859A-68A93B1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6B5A-21E9-40BE-B90B-6E6DFBA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7C79B-E365-4C47-89DB-A8AB9AB1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64AF3-6509-4A52-A03B-F7C7C1C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BABB-EB8F-460D-8762-0F0E1E75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B80F-5EE8-4824-8250-171259D4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A4D3-DF7B-4557-96B3-A56A7F1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E3608-4A4B-4F3C-9A12-9106BC46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E011-7915-4632-949E-C7627303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E7BD0-F04C-4CF8-A16D-5C52936E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F890-5830-41AF-ACD8-143B0CBD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470-0AEE-4E36-A466-170A33C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1E24-D9A2-4FF1-A328-270BB1E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5A165-729F-47D1-BF4B-058D7BB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B4D9-5897-495F-B659-BD8F76A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E6BB6-E56A-4BA4-B6DD-BB6FC64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86BC-5EC9-456A-8A7C-AD0D17A5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40DF-92F7-4D15-A174-6D1A7A49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C5215-F4E6-4F61-BEFC-EF751864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25C1A-9F82-4D59-8E9D-5B50CC42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F0885-6D18-4D22-AF79-80E4547B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1D8D2-CDBE-46C0-A3FB-57ECA7B2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151-30D2-4232-BCD1-57A65F5070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C41-0813-468B-B201-F0A07C74AC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FEED-E395-4E96-B467-2B927EE650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C99C-91FE-4F0C-ABBF-2A2490F7C790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074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075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3076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3077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3078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3079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3080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3081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3082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3083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3084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3085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3086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3087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3088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3089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3090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3091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3092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3093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3094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3095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3096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3097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3098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3099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3100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AE7-5D19-4B88-B855-BBB66A029F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94E9-DE40-4CE1-975C-F9417D6C64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DE64-2FDF-46FA-9D33-198C79EC25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0AA-F7AA-4318-BFB4-2C4B8424E4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304D-3A24-41BE-9846-8B9D5ED579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18F9-9BB4-4887-A3C6-336C893D87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435-0285-47EC-BAB7-D1C9549EEF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BF3-5324-4FBD-9B5D-A89A3B6BDF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coferia.cl/site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0" y="617400"/>
          <a:ext cx="9144000" cy="6131160"/>
        </p:xfrm>
        <a:graphic>
          <a:graphicData uri="http://schemas.openxmlformats.org/drawingml/2006/table">
            <a:tbl>
              <a:tblPr/>
              <a:tblGrid>
                <a:gridCol w="1306440"/>
                <a:gridCol w="1249560"/>
                <a:gridCol w="1224000"/>
                <a:gridCol w="1223640"/>
                <a:gridCol w="1440000"/>
                <a:gridCol w="1513080"/>
                <a:gridCol w="11872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res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bicació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ció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act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orio Orgánic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Reina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asamdería, Minimarke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sas horneadas, Minimarke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o certificad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ororganico.c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3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 Mercadito Orgánic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illota, Limache, Valparaíso, Viña, Con Co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astas, Entrega a domicilio,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st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, verduras, productos elaborados, lácte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ción orgánica y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 convencionale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mercaditorganico@gmail.com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ria Agroecológic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ricó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ria libre durante los meses de veran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, verdura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ción Orgánica USA y U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.G. Orgánicos del Centro Sur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3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ra Viva Ltd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Ñuño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nda,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ega a domicilio,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feterí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, verduras, productos elaborados, lácte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do certificad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raviva.ne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co y San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in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ta de productos orgánicos por interne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, verduras, productos elaborad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ción orgánica y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 convencionale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coysano.c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Text Box 79"/>
          <p:cNvSpPr/>
          <p:nvPr/>
        </p:nvSpPr>
        <p:spPr>
          <a:xfrm>
            <a:off x="731160" y="6516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iendas y Ferias Orgánicas o mixtas a lo largo de Chi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8" name="Picture 99" descr="Logo-mercadito"/>
          <p:cNvPicPr/>
          <p:nvPr/>
        </p:nvPicPr>
        <p:blipFill>
          <a:blip r:embed="rId1"/>
          <a:stretch/>
        </p:blipFill>
        <p:spPr>
          <a:xfrm>
            <a:off x="1332000" y="2349360"/>
            <a:ext cx="1182600" cy="711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1" descr="logoemporiorganico02"/>
          <p:cNvPicPr/>
          <p:nvPr/>
        </p:nvPicPr>
        <p:blipFill>
          <a:blip r:embed="rId2"/>
          <a:stretch/>
        </p:blipFill>
        <p:spPr>
          <a:xfrm>
            <a:off x="1547640" y="1268280"/>
            <a:ext cx="792360" cy="613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3" descr=""/>
          <p:cNvPicPr/>
          <p:nvPr/>
        </p:nvPicPr>
        <p:blipFill>
          <a:blip r:embed="rId3"/>
          <a:stretch/>
        </p:blipFill>
        <p:spPr>
          <a:xfrm>
            <a:off x="1332000" y="3500280"/>
            <a:ext cx="1114200" cy="640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1" descr="TVLogo2"/>
          <p:cNvPicPr/>
          <p:nvPr/>
        </p:nvPicPr>
        <p:blipFill>
          <a:blip r:embed="rId4"/>
          <a:stretch/>
        </p:blipFill>
        <p:spPr>
          <a:xfrm>
            <a:off x="1332000" y="4508640"/>
            <a:ext cx="10080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250920" y="260280"/>
          <a:ext cx="8893080" cy="6485040"/>
        </p:xfrm>
        <a:graphic>
          <a:graphicData uri="http://schemas.openxmlformats.org/drawingml/2006/table">
            <a:tbl>
              <a:tblPr/>
              <a:tblGrid>
                <a:gridCol w="1271520"/>
                <a:gridCol w="1268280"/>
                <a:gridCol w="1271520"/>
                <a:gridCol w="989280"/>
                <a:gridCol w="1552320"/>
                <a:gridCol w="1279800"/>
                <a:gridCol w="12603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res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bicació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ció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act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feri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Rein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ria libr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, verduras, productos elaborados, lácte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 certificados y convencionale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feria.c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io Palta S.A.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ntiago/Despacho a todo Chile.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, verduras, productos elaborados, lácte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oductos certificado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piopalta.c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ercado Orgánic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es V y Metropolitan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eri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utas y verduras, lacteos, panes y quesos, huevos, productos sustentables, vinos, etc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roductos certificados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ercadoorganico.c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operativa Pto. Mont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to Mont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operativa El manzano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Valdivia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11" descr="logo_2.jpg"/>
          <p:cNvPicPr/>
          <p:nvPr/>
        </p:nvPicPr>
        <p:blipFill>
          <a:blip r:embed="rId1"/>
          <a:srcRect l="6043" t="0" r="1537" b="0"/>
          <a:stretch/>
        </p:blipFill>
        <p:spPr>
          <a:xfrm>
            <a:off x="1673280" y="2492280"/>
            <a:ext cx="954000" cy="792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0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934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DSC00014"/>
          <p:cNvPicPr/>
          <p:nvPr/>
        </p:nvPicPr>
        <p:blipFill>
          <a:blip r:embed="rId1"/>
          <a:stretch/>
        </p:blipFill>
        <p:spPr>
          <a:xfrm>
            <a:off x="4572000" y="549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feria agroecologica de curico 2"/>
          <p:cNvPicPr/>
          <p:nvPr/>
        </p:nvPicPr>
        <p:blipFill>
          <a:blip r:embed="rId2"/>
          <a:stretch/>
        </p:blipFill>
        <p:spPr>
          <a:xfrm>
            <a:off x="4643280" y="393372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BAB009 Kopie"/>
          <p:cNvPicPr/>
          <p:nvPr/>
        </p:nvPicPr>
        <p:blipFill>
          <a:blip r:embed="rId3"/>
          <a:stretch/>
        </p:blipFill>
        <p:spPr>
          <a:xfrm>
            <a:off x="250920" y="3860640"/>
            <a:ext cx="4176720" cy="2781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4"/>
          <a:stretch/>
        </p:blipFill>
        <p:spPr>
          <a:xfrm>
            <a:off x="146160" y="549360"/>
            <a:ext cx="431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L" sz="3200" spc="-1" strike="noStrike">
                <a:solidFill>
                  <a:srgbClr val="660066"/>
                </a:solidFill>
                <a:latin typeface="Tahoma"/>
              </a:rPr>
              <a:t>Dificultad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Necesidad de apoyo gubernamental (educación, capacitación, trámites, difus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Apoyo en capacitación para transición de Ag. convencional a Ag. Orgánic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Información sobre ubicación de cultivos transgé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Necesidad de contar a nivel nacional con un banco de semillas orgánicas certificada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Certificación participativa valida para comercializar a tercer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Subsidio al transporte interregiona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660066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Falta de infraestructura permanente  (Ecoferia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660066"/>
                </a:solidFill>
                <a:latin typeface="Tahoma"/>
              </a:rPr>
              <a:t>8.   Mayor fiscalización para que se evite el engaño y la competencia desleal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458200" y="5013000"/>
            <a:ext cx="1461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79280" y="155520"/>
            <a:ext cx="2089080" cy="24098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Inici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81560" y="-822240"/>
            <a:ext cx="3381480" cy="171432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7"/>
          <p:cNvSpPr/>
          <p:nvPr/>
        </p:nvSpPr>
        <p:spPr>
          <a:xfrm>
            <a:off x="2195640" y="1052640"/>
            <a:ext cx="6697440" cy="74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EDUCAC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Campaña Nacional de Difusión </a:t>
            </a: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sobre los beneficios de una alimentación SANA y Libre de agroquímico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APOYO AGRICULTORES ORGANIC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- Asesoría  en </a:t>
            </a: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los productos  que demanda el consumidor </a:t>
            </a: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(cereales, panes, lácteos y sus derivados, legumbres, arroz, etc).</a:t>
            </a:r>
            <a:br>
              <a:rPr sz="1800"/>
            </a:b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- Asesoría en la administración de su micro empresa: marketing, etiquetado, fijación de precios, etc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CERTIFICAC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Permitir que las empresas exportadoras con sello USDA / UE u otros puedan comercializar sus productos en Chile sin más trámit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MERCDOS ORGANIC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Apoyo financiero y logístico para la creación de una </a:t>
            </a:r>
            <a:r>
              <a:rPr b="1" lang="es-CL" sz="1800" spc="-1" strike="noStrike">
                <a:solidFill>
                  <a:srgbClr val="006600"/>
                </a:solidFill>
                <a:latin typeface="Calibri"/>
              </a:rPr>
              <a:t>Red Nacional de Mercados Orgánicos</a:t>
            </a:r>
            <a:r>
              <a:rPr b="0" lang="es-CL" sz="1800" spc="-1" strike="noStrike">
                <a:solidFill>
                  <a:srgbClr val="545472"/>
                </a:solidFill>
                <a:latin typeface="Calibri"/>
              </a:rPr>
              <a:t> que opere de manera permanente. Primera etapa: Viña del Mar, La Serena y Concep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Título 1"/>
          <p:cNvSpPr/>
          <p:nvPr/>
        </p:nvSpPr>
        <p:spPr>
          <a:xfrm>
            <a:off x="3995640" y="260280"/>
            <a:ext cx="3313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000" spc="-1" strike="noStrike">
                <a:solidFill>
                  <a:srgbClr val="006600"/>
                </a:solidFill>
                <a:latin typeface="Calibri"/>
              </a:rPr>
              <a:t>PROPUESTAS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pino</cp:lastModifiedBy>
  <dcterms:modified xsi:type="dcterms:W3CDTF">2010-12-27T20:40:56Z</dcterms:modified>
  <cp:revision>182</cp:revision>
  <dc:subject/>
  <dc:title>Presentación de PowerPoint</dc:title>
</cp:coreProperties>
</file>